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814-30D9-4382-B50E-46CFE9A5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173-FCE9-4D5D-907F-E0A6DDCB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F9D-C483-47EB-AA00-3E1B05E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E4E-0511-4F43-86F2-81EA171B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7D6-73FF-4A00-A674-EC87738B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770-9FCD-4CB9-A602-028118F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245-D595-43D2-AF8E-689E958F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C32-CCAE-454E-8805-55E4C5F1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BEF-47D9-4F78-B7E5-D2919005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666-8A84-4EC8-8859-2A0BF32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9FE-F548-433F-BECC-BDE68E0C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F23-D0A8-41B8-B5D1-D250B37E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42C6-C7A5-44C8-A24C-204E895D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480360" cy="273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1341360"/>
            <a:ext cx="257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4720" y="3860640"/>
            <a:ext cx="218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96000" y="2637000"/>
            <a:ext cx="190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2637000"/>
            <a:ext cx="21564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386064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64000" y="1341360"/>
            <a:ext cx="216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42:54Z</dcterms:created>
  <dc:creator>Sergey</dc:creator>
  <dc:description/>
  <dc:language>en-US</dc:language>
  <cp:lastModifiedBy>Sergey</cp:lastModifiedBy>
  <dcterms:modified xsi:type="dcterms:W3CDTF">2012-02-05T12:51:34Z</dcterms:modified>
  <cp:revision>2</cp:revision>
  <dc:subject/>
  <dc:title>Слайд 1</dc:title>
</cp:coreProperties>
</file>